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0BCF-CD94-45EA-B447-B5ECBC97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D24D-C3E2-4E71-A660-386E321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8583-50C5-477A-9381-321DF10C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93C0-50CA-41A2-B62A-A69A9BE0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2C2F-07C5-4CB3-8F3A-9BEF0AAA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7399-A4DA-42E1-873F-02808A07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862-3ED5-4C08-84F7-31322DE3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F93-746A-41B4-BA87-97E92E6D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7CCA-F77A-4239-A86D-A414B51F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2BF2-3E90-4CD7-9C52-D7D1B72E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9DE1-4A6A-494B-AC5B-5189DA40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C4D0-3E36-44E2-9A88-FAF1883C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15E-3253-4C5A-8EA5-DF941C9A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4E6-21B5-4682-92B9-7F64763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F784-234E-42DD-A3EE-EE336C7F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CCAB-F239-4893-A3AA-6A5C68F0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DF1-4AFB-47BD-BA55-1A3D53A3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D893-2072-437C-8AE8-454C047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5256-02A7-40E3-8EF0-0C11DC7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BBF2-024B-4A39-B90D-E5F1C3CF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FBD3-65E7-4C13-9578-95A0D26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CCC5-9ED5-4E04-8ED8-470DF165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1B8C-8337-4EAD-AADF-A42AD12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1F3C-DF31-4052-9858-3143636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3F6-FC15-434D-B497-1400487383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9BE-94DB-49B4-86F2-5C077CB2C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#34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Exploring Magnets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with magnets and write observed properties of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ze explanations for how magnets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2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" y="5029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5 important uses of magnets or magnetic fie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396252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are some important uses of magnets or magnetic field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re on Mag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the direction that a magnet will be forced when put in the magnetic field of a wire with current flowing into the scre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ton’s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states that if the wire exerts a force on the magnet upward, then the magnet exerts the same force onto the wire down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14440" y="226692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90760" y="2419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1949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2680" y="246708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19560" y="254304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109840" y="2500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786200" y="2238480"/>
            <a:ext cx="83844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81440" y="2128680"/>
            <a:ext cx="106704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6680" y="205740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572000" y="257148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681440" y="25765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805280" y="25858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24640" y="2604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748480" y="2619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57920" y="2619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038480" y="2209320"/>
            <a:ext cx="0" cy="76212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76720" y="30481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wire on mag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507204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219320" y="5224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5881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gnet on w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527220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91000" y="534816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381280" y="53053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9880" y="580536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09880" y="5653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5500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09880" y="534816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51958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9880" y="5043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5087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729400"/>
            <a:ext cx="0" cy="67140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gnet on W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use the right hand (gun) rule to determine the direction of the force acting on a w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the previous diagr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hand rule instru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Place your index finger in the direction of the current in the w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lace your middle finger in the direction of the magnetic field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g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The direction that your thumb points is the direction that the wire will be for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277164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90720" y="29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257800" y="3505320"/>
            <a:ext cx="0" cy="67140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86400" y="35812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gnet on w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62400" y="304812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152680" y="30052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81280" y="3505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81280" y="33526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581280" y="32004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30481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8954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7432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57600" y="2787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ire on Wi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right hand rule to determine the direction that wire B will be forced due to wire A’s magnetic field and vice ver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right hand rule to determine the direction that wire B will be forced due to wire A’s magnetic field and vice ver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62280" y="2209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2242800" y="2971800"/>
            <a:ext cx="762120" cy="1440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43160" y="31240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 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2876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8600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37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05264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94788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312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83808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94788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07172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9072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1456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12400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0384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812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308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25244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05280" y="2071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27236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2971800"/>
            <a:ext cx="76212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304812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 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3884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79608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678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46272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35796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5320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24852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35796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48180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30080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4246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344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720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07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05720" y="19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014560" y="52862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81040" y="589608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38280" y="597204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528560" y="5929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04920" y="566748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0160" y="555768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95400" y="548640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990720" y="600048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1100160" y="60055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224000" y="60148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043000" y="6033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16684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27664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91040" y="589608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05080" y="5133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57560" y="5148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24640" y="52862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91480" y="5896080"/>
            <a:ext cx="30456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15000" y="5667480"/>
            <a:ext cx="83844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510240" y="5557680"/>
            <a:ext cx="106704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05480" y="548640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467480" y="601956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7577280" y="6024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7696080" y="60386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00800" y="6033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2464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34080" y="60483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181480" y="589608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24320" y="596124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229000" y="5929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81480" y="5133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58000" y="50720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62320" y="59720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962760" y="59720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ield of a solenoi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multiple wires where all of the wires on top are going into the page and all of the wires on the bottom are coming out of the p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tic field lines will be concentrated inside the soleno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862280" y="2209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32876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8600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37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5264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4788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12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83808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94788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07172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9072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01456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12400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384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812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08592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3884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96080" y="289548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678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6272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35796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25320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248520" y="292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357960" y="29289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48180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0" y="29574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4246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53444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281952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72040" y="2884320"/>
            <a:ext cx="2286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076360" y="2852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53080" y="2604960"/>
            <a:ext cx="83808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648320" y="24955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43560" y="24242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53852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648320" y="29430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772160" y="2952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59116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71500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2444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47600" y="3762360"/>
            <a:ext cx="83844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42840" y="3652920"/>
            <a:ext cx="106704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38080" y="358128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38520" y="2590920"/>
            <a:ext cx="838080" cy="761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33760" y="2481120"/>
            <a:ext cx="106668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29000" y="240984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538360" y="29383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647800" y="29430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771640" y="2952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91000" y="2971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1484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824280" y="298620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00440" y="3762360"/>
            <a:ext cx="83808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95680" y="3652920"/>
            <a:ext cx="106668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90920" y="3581280"/>
            <a:ext cx="129528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05200" y="3762360"/>
            <a:ext cx="83844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00440" y="3652920"/>
            <a:ext cx="106704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95680" y="358128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534000" y="3762360"/>
            <a:ext cx="83844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29240" y="3652920"/>
            <a:ext cx="1067040" cy="99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324480" y="3581280"/>
            <a:ext cx="1295640" cy="1143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295280" y="39765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366920" y="405288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076560" y="4005360"/>
            <a:ext cx="304920" cy="304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147840" y="408132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81680" y="399564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52960" y="407196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796080" y="399096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867360" y="406728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41860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961920" y="4200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71720" y="4200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88604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995480" y="41338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19320" y="414324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417672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71476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2420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652920" y="4114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762360" y="4119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88620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1952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2932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557680" y="4114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667480" y="4119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79132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319800" y="41911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44364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553080" y="420516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7386480" y="4114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496280" y="4119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620120" y="412884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8128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3852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62880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5292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8620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94344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93336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8620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957480" y="6477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91120" y="541008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4800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423828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91120" y="64008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26240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9568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5292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454320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9568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56732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5784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484776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0060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71880" y="6477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16240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515268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05520" y="6400800"/>
            <a:ext cx="30456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17680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1008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6732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545760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481720" y="6477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15000" y="541008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72240" y="5486400"/>
            <a:ext cx="2286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762160" y="5443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15000" y="6400800"/>
            <a:ext cx="304920" cy="30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86280" y="6477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80920" y="585324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580920" y="5929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3580920" y="60199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580920" y="6095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580920" y="6186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580920" y="627696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 #37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Calculating Magnetic Force 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he magnitude of the magnetic force acting on a wire or point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the magnitude of the magnetic field acting on a wire or point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units of magnetic field str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9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" y="601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Magnetic Force an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0880" y="44197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ton is traveling East in a magnetic field that points North. What is the direction that the proton is forced? What if the proton was traveling North and the magnetic field is also directed Nor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orce on a wir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er the current through the wire, the larger the magnetic force acting o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nger the length of wire in the magnetic field, the greater the force acting o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onger the magnetic field that the wire is in, the greater the force acting on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stipulation is that the current though the wire must be perpendicular to the magnetic field that the wire is plac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current is parallel to the field, no force will be f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current is not perpendicular, then use the component of the B field that is perpendic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, this is the force exerted by the field onto the w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 in this equation is not the B field created by the wire. It is an already existing B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also treat this wire as if it is just a single point charge moving with some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btain the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200400" y="1143000"/>
                <a:ext cx="2666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200400" y="5502240"/>
                <a:ext cx="26668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se equations involve cross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used such that we remember to use only the perpendicular component of the magnetic field str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 this we can transform our equation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angle between the magnetic field and the current or velo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457200" y="4267080"/>
                <a:ext cx="3505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419720" y="4267080"/>
                <a:ext cx="35049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#35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Explaining the Magnetic Forc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describe relativity and how it relates to the transfer of “information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the magnetic force is replaced in absence of the magnetic for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 the first equation of the magnetic force from our previous equation for the electric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how the electric force and the magnetic force are really two parts of the same underlying fundamental electromagnetic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3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5867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how an accelerating charge will disrupt the surrounding electric and magnetic fields and create an electromagnetic wav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4952880"/>
            <a:ext cx="8077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it possible for information to travel instantaneously from source to receiver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26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rash course relativit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H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ravel faster than the speed of 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ven fundamenta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ay hello to a friend. Your friend will never hear you say hello the instant that you say 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(like everything else) has to travel through both time and space before being received (before action takes pla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uses a disturbance in the electric force between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rash course relativity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ffect is minimal at low (non-relativistic spee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s considerable at high sp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wo point charges at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onsider two point charges moving at relativistic speeds (at the speed of l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ssible for the charges to “communicate” with one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33720" y="28954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1148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3073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09680" y="42926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plaining the 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raveling at the speed of light, these like charges do not rep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high speeds they repel, but less than they would at lower sp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for Newton’s laws to hold true, then there must be some force acting opposite the electric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rce is present when charges are mo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magnetic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plaining the Magnetic Forc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ion of this force is perpendicular to the velocity of the charge (curren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is also perpendicular to the direction of the magnetic fiel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gnetic field forms in concentric circles around the direction of the moving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487692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60958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505476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627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Lesson #36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opic: Magnetic Field 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ive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this class I will be able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rection of the magnetic field surrounding a magnet or a wire carrying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rection a magnet will force another magnet or a wire with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irection a wire with current will force a magnet or another wire with cur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magnetic field created with a soleno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8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6019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: Holt p781 #4, 8, 9, 13, 14, 17, 19, 22 - 27, 32, 35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4724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rm Up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etch a picture of the magnetic field lines surrounding a bar magnet. Sketch what happens if the magnet gets broken in ha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gnetic Field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gnetic field is the direction that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le of a magnet will be forc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agnet is placed near another magnet’s field, it is easy to see the direction that the magnet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magnet is placed near a wire with current, it is more difficult to predict the direction the magnet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wo wires with current are placed near one another, it is also difficult to predict the direction that they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following dia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gnet on Magne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magnetic field of magnet B and the direction that magnet A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magnetic field of magnet A and the direction that magnet B will be for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66680" y="2514600"/>
            <a:ext cx="243864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29200" y="251460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43000" y="2666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2666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58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09880" y="2514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09880" y="26668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809880" y="28195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09880" y="2971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09880" y="3124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098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2590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142640" y="3429000"/>
            <a:ext cx="198108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34290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 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029200"/>
            <a:ext cx="243828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5029200"/>
            <a:ext cx="2438640" cy="685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5181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29200" y="5181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81280" y="58672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62520" y="5105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5943600"/>
            <a:ext cx="2057400" cy="0"/>
          </a:xfrm>
          <a:prstGeom prst="line">
            <a:avLst/>
          </a:prstGeom>
          <a:ln w="63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62720" y="60958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 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81280" y="57150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5562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81280" y="5410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52578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81280" y="51055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7-01-08T15:49:48Z</dcterms:modified>
  <cp:revision>101</cp:revision>
  <dc:subject/>
  <dc:title>Lesson #1 8/29/06 </dc:title>
</cp:coreProperties>
</file>